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124-C158-4AAD-AF1F-29AE0758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2F8-9A28-44DC-B15A-72B02A8C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307-11A5-4CB2-8201-88DA9B98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145-CF71-4012-88B2-D5022980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8B6E-64E3-49FD-9A3E-B4F7C299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317D-C667-4783-A8CC-17027A21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84AD-F7B7-4149-9206-7A08C2C6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ADA9-9654-4D7C-B9E6-0217FFFB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9CA2-4E87-4FB0-95BF-49656FBA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7661-5885-42A3-8537-ED779F19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7A44-3960-44A3-9400-072B3BED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C3E-68B5-47E3-8D29-5AEF1AE4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1563-C1A4-4D55-B5D1-C76078E5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D6FA-6E2E-4A08-B367-38ABEA4A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8CC9-D6CA-4313-B7F0-14BDCBC1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7EE6-1D70-4456-A747-573EFD42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910B-C893-4377-B30C-111E0BF1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52C-BCA6-4091-A626-642B9F53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130-0171-4297-BA5A-A80D22A6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F16-5D49-45C2-9D8B-3B907B87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A7F-5632-44AD-B513-456A9E48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4FF-D820-40E7-B36A-BC0109FA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00E-A6C5-4F2A-A6A4-3AE6749E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67C-4533-44C5-AC6C-E0205B3D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681B-2C29-40F9-9E07-3439A11E73F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50B0-8218-4B1B-AE51-DF72CDA66C5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unior Red Cross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junior red cross"/>
          <p:cNvPicPr/>
          <p:nvPr/>
        </p:nvPicPr>
        <p:blipFill>
          <a:blip r:embed="rId1"/>
          <a:stretch/>
        </p:blipFill>
        <p:spPr>
          <a:xfrm>
            <a:off x="2971800" y="2819520"/>
            <a:ext cx="31719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tional Geographi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5" descr="national geographic"/>
          <p:cNvPicPr/>
          <p:nvPr/>
        </p:nvPicPr>
        <p:blipFill>
          <a:blip r:embed="rId1"/>
          <a:stretch/>
        </p:blipFill>
        <p:spPr>
          <a:xfrm>
            <a:off x="3048120" y="1600200"/>
            <a:ext cx="29988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al Sto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6" descr="coal stove"/>
          <p:cNvPicPr/>
          <p:nvPr/>
        </p:nvPicPr>
        <p:blipFill>
          <a:blip r:embed="rId1"/>
          <a:stretch/>
        </p:blipFill>
        <p:spPr>
          <a:xfrm>
            <a:off x="3276720" y="2209680"/>
            <a:ext cx="257796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alvanized Buck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5" descr="galvanized bucket"/>
          <p:cNvPicPr/>
          <p:nvPr/>
        </p:nvPicPr>
        <p:blipFill>
          <a:blip r:embed="rId1"/>
          <a:stretch/>
        </p:blipFill>
        <p:spPr>
          <a:xfrm>
            <a:off x="3200400" y="1981080"/>
            <a:ext cx="26877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uble Des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6" descr="double desks"/>
          <p:cNvPicPr/>
          <p:nvPr/>
        </p:nvPicPr>
        <p:blipFill>
          <a:blip r:embed="rId1"/>
          <a:stretch/>
        </p:blipFill>
        <p:spPr>
          <a:xfrm>
            <a:off x="1600200" y="1981080"/>
            <a:ext cx="594216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ar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6" descr="quarry"/>
          <p:cNvPicPr/>
          <p:nvPr/>
        </p:nvPicPr>
        <p:blipFill>
          <a:blip r:embed="rId1"/>
          <a:stretch/>
        </p:blipFill>
        <p:spPr>
          <a:xfrm>
            <a:off x="457200" y="1752480"/>
            <a:ext cx="807084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tr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6" descr="the strap"/>
          <p:cNvPicPr/>
          <p:nvPr/>
        </p:nvPicPr>
        <p:blipFill>
          <a:blip r:embed="rId1"/>
          <a:stretch/>
        </p:blipFill>
        <p:spPr>
          <a:xfrm>
            <a:off x="3276720" y="1371600"/>
            <a:ext cx="2595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er Pum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6" descr="water pump"/>
          <p:cNvPicPr/>
          <p:nvPr/>
        </p:nvPicPr>
        <p:blipFill>
          <a:blip r:embed="rId1"/>
          <a:stretch/>
        </p:blipFill>
        <p:spPr>
          <a:xfrm>
            <a:off x="1371600" y="1752480"/>
            <a:ext cx="6097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9:21:47Z</dcterms:created>
  <dc:creator>miles_t</dc:creator>
  <dc:description/>
  <dc:language>en-US</dc:language>
  <cp:lastModifiedBy>Newman, Ruth</cp:lastModifiedBy>
  <dcterms:modified xsi:type="dcterms:W3CDTF">2011-01-27T18:52:23Z</dcterms:modified>
  <cp:revision>3</cp:revision>
  <dc:subject/>
  <dc:title>Junior Red Cross</dc:title>
</cp:coreProperties>
</file>